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14E8-3FB7-4E63-81F1-49B92A77A1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4C98-E592-43CF-B29B-C374EACC66E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7F24-0CA8-4019-8FC6-66E00AE6D1B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1FCC-FEE7-43F7-8251-FF661C5C429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C6F5-B3FC-4265-B2E7-A20BE04C696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6B11-9409-4612-A573-B5716BA5FCD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6FD8-B2C1-47EA-BBBD-37ED4A8B677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9CAB-9488-498D-9A9F-D2A35663BD8C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D87B-CF9D-47EE-B73E-559FAA21FF4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2A94-55B5-43EC-8A27-0B3359E3C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6D8F-F235-4DF5-8D6E-E3972B4D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F3DD-553F-44DF-A5CB-506576903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00A1-B377-491B-83BA-BD36782B3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787E-17CA-47D9-A966-8854A2640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5BE5-A4E6-4026-9949-05CFA07B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2AE3-9BDA-4E7D-BC5A-F2107178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2DB4B-4C89-47E0-B720-635F1CF2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7587-52F5-40C8-963E-FA93E7A3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77D61-4F65-4CC5-9A7A-209CCDF8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8BC6-FE0B-4245-A9DE-F754A97C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7DCB-AAC4-43B9-8761-94BBC59E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D53A-0366-4A92-B3A8-DFBF6604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C699C-FDB9-4E6B-AFAE-8E342B2B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69A9-1A45-4475-BA03-3D2A2FDD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AC84-32F4-4236-9AF6-093F197FE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CA1C-2130-451B-BDDB-357BCD85D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05AA-8DA3-48C1-A0FC-E6217E44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C641-C181-4827-8AEB-C730C5FC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E2A0-FE64-441A-B2CC-3F1832A8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08E1-816B-4269-BAF7-F8847F71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FC9B-4F74-40BD-A3E6-276E1111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409E-2541-4F66-8D27-06DDB75E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6270-F814-45DE-815E-2B1C10E8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09C3-04A1-4B59-AFCD-FA5FB62AA4C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404A-6A6B-4CED-94D3-57EE5615922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v.proskurovska@ebf-fbe.eu" TargetMode="External"/><Relationship Id="rId2" Type="http://schemas.openxmlformats.org/officeDocument/2006/relationships/hyperlink" Target="http://www.ebf-fbe.eu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European Banking Sector</a:t>
            </a:r>
            <a:br>
              <a:rPr sz="2800"/>
            </a:b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n a period of Global Financial and Economic Crisi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429080"/>
            <a:ext cx="640080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cc"/>
                </a:solidFill>
                <a:latin typeface="Times New Roman"/>
              </a:rPr>
              <a:t>Viktorija Proskurovska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cc"/>
                </a:solidFill>
                <a:latin typeface="Times New Roman"/>
              </a:rPr>
              <a:t>Adviser, Economic and Monetary Affairs and Relations with Associates of the European Banking Federation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214800" y="285840"/>
            <a:ext cx="550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cad"/>
                </a:solidFill>
                <a:latin typeface="Arial"/>
              </a:rPr>
              <a:t>10</a:t>
            </a:r>
            <a:r>
              <a:rPr b="1" lang="en-GB" sz="1800" spc="-1" strike="noStrike" baseline="30000">
                <a:solidFill>
                  <a:srgbClr val="005cad"/>
                </a:solidFill>
                <a:latin typeface="Arial"/>
              </a:rPr>
              <a:t>th</a:t>
            </a:r>
            <a:r>
              <a:rPr b="1" lang="en-GB" sz="1800" spc="-1" strike="noStrike">
                <a:solidFill>
                  <a:srgbClr val="005cad"/>
                </a:solidFill>
                <a:latin typeface="Arial"/>
              </a:rPr>
              <a:t> Inter-Balkan Forum of Banking Association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5cad"/>
                </a:solidFill>
                <a:latin typeface="Arial"/>
              </a:rPr>
              <a:t>16 October 2009 - Sarajevo, Bosnia &amp; Herzegovina</a:t>
            </a:r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5830-694C-40B8-855D-00E88B74347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ignificance of the crisi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vaporation of liquidity in the inter-banking market;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ankruptcies of financial giants, causing systemic risk;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Loss of public trust in the financial sector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eterioration in general economic condition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crease of the government share in the private sector (causing unlevel playing field).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66cc"/>
                </a:solidFill>
                <a:latin typeface="Times New Roman"/>
              </a:rPr>
              <a:t>Global estimated loss</a:t>
            </a:r>
            <a:r>
              <a:rPr b="0" lang="fr-FR" sz="2500" spc="-1" strike="noStrike">
                <a:solidFill>
                  <a:srgbClr val="0066cc"/>
                </a:solidFill>
                <a:latin typeface="Times New Roman"/>
              </a:rPr>
              <a:t>: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USD 3.4 trillion (about € 2.3 trillion)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 GDP might fall by 4% in 2009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US GDP may decrease 2.6% in 2009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action of bank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flect on their weakness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duce their costs and improve return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lean-up their balance sheet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dapt their business strategie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4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C489-8148-472B-84FA-13EA5D8A087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action of the ECB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and national government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More liquidity and capital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ro-area Governments committed about 35% of GDP to financial sector support measur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rosystem’s balance sheet had almost doubled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Negative consequence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creased public ownership in the EU banking sector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38DA-30E6-4F53-8EA7-31FF86C0945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gulatory response by the European Commiss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 Commission is working on the body of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legislation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on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supervisory architecture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apital requirement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ccounting principl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muneration polici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hedge funds, UCITS, etc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Aim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o ensure the right incentives, reduce gold-plating, and strengthen risk management and prudential oversight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70F5-0BE2-4304-8080-7EE1454F1A4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The EURO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Benefit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of euro membership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confidence in the currency (avoid sharp devaluation during crisis)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ECB measures to enhance market liquidity enabled euro area countries to avoid a credit squeeze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Challenge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Differences in the pricing of euro member countries’ debt and credit default insurance have widened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D13D-19C6-453D-9BF1-66A7244C155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nclus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urrent EU-level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prioritie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are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Need for effective </a:t>
            </a: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government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exit strategies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ECB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continue facilitating the working of financial markets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EU authorities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finalise their proposal for the Regulation on banking supervision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banks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continue their operations while reforming internal procedures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6408-3D47-49A4-9A55-C81C4CB645A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Thank you!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For contacts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Viktorija Proskurovska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Adviser in Economic and Monetary Affairs, Associates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European Banking Federation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v.proskurovska@ebf-fbe.eu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ebf-fbe.eu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4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73D2-989E-4530-970C-A0977FC1FAE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09:21:47Z</dcterms:created>
  <dc:creator>Viktorija Proskurovska</dc:creator>
  <dc:description/>
  <dc:language>en-US</dc:language>
  <cp:lastModifiedBy>Viktorija Proskurovska</cp:lastModifiedBy>
  <dcterms:modified xsi:type="dcterms:W3CDTF">2009-10-09T13:05:37Z</dcterms:modified>
  <cp:revision>16</cp:revision>
  <dc:subject/>
  <dc:title>Европейский банковский сектор  в период глобального финансово-экономического кризиса</dc:title>
</cp:coreProperties>
</file>